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A2B-2FBF-4B9E-B7CF-93645521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6C9-FC1F-4F07-A3AD-0866568F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F19-A377-403D-9ACD-C8FE9710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697-4AA1-4C18-A889-ACE2730B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8C6D-B0AD-4314-B577-1B1507A0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8F9B-204E-4248-AFDB-089C4E17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8C8A-0AB1-4918-8DF0-DF0D5E5C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0290-ACCA-4B46-9554-7D926E03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7FF5-3AC1-43A8-B7D9-1022B525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B8EE-D484-455C-A98B-AC38496F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4E25-BA50-4F97-885A-B46BA925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C89-8849-4CD2-AE08-F34BD48E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2A5D-0192-4049-B300-B9BF6EBF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50A5-9A8D-4CD4-B3AA-0C5C016B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593F-5F16-4A43-AE09-92FD9177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D9A4-EFCB-4B95-BE53-4B2221ED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5D2F-A94C-47D1-8088-3DD9688C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B3A-7318-4EA5-AD93-F058FB04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870-2AF8-4FAB-8D7E-D7A27C66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4E3-455D-475A-8F8B-0D7370D2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F9C-5EC1-4834-AECF-A029A20D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1A8-3C38-499B-901C-C7D66247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581-A3EA-4746-97BE-54B2EBB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5A7-7ED4-47F1-BD73-63B34EF3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AA3B-427D-4163-8834-E5D2E30CD7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823C-718A-4078-8BC7-5AA55F42C5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7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leontology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r ‘Study of Fossils’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perspectives on 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become a fossil without really t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52640" y="159984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7562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6109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ere Fossils Occ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most Exclusively in Sedimentary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of Melting or Metamorphism Would Destroy Almost Every Type of Foss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 Excep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Fossils in Low-grade Metamorph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es Buried by Lava Fl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 Preserved, Organisms Have to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ied Rapidly After Dea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rved From Dec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pple Marks, Bay Be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Mvc-359f" descr=""/>
          <p:cNvPicPr/>
          <p:nvPr/>
        </p:nvPicPr>
        <p:blipFill>
          <a:blip r:embed="rId1"/>
          <a:stretch/>
        </p:blipFill>
        <p:spPr>
          <a:xfrm>
            <a:off x="838080" y="798480"/>
            <a:ext cx="746784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 Ripple Marks, Baraboo 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Mvc-360f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What would this observation tell a 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Mvc-359f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952880" cy="3716280"/>
          </a:xfrm>
          <a:prstGeom prst="rect">
            <a:avLst/>
          </a:prstGeom>
          <a:ln w="0">
            <a:noFill/>
          </a:ln>
        </p:spPr>
      </p:pic>
      <p:pic>
        <p:nvPicPr>
          <p:cNvPr id="208" name="Mvc-360f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562720" y="44956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ss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2895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Mud Cr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Mvc-364f" descr=""/>
          <p:cNvPicPr/>
          <p:nvPr/>
        </p:nvPicPr>
        <p:blipFill>
          <a:blip r:embed="rId1"/>
          <a:stretch/>
        </p:blipFill>
        <p:spPr>
          <a:xfrm>
            <a:off x="838080" y="798480"/>
            <a:ext cx="746784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 Mud Cracks, Virgin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Mvc-366f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What would this observation tell a 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Mvc-366f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3200"/>
          </a:xfrm>
          <a:prstGeom prst="rect">
            <a:avLst/>
          </a:prstGeom>
          <a:ln w="0">
            <a:noFill/>
          </a:ln>
        </p:spPr>
      </p:pic>
      <p:pic>
        <p:nvPicPr>
          <p:cNvPr id="217" name="Mvc-364f" descr=""/>
          <p:cNvPicPr/>
          <p:nvPr/>
        </p:nvPicPr>
        <p:blipFill>
          <a:blip r:embed="rId2"/>
          <a:stretch/>
        </p:blipFill>
        <p:spPr>
          <a:xfrm>
            <a:off x="4343400" y="121932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867280" y="3733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3886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ss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al Hard Mate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00400" y="2631960"/>
            <a:ext cx="5791320" cy="3997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53341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ered Hard Tiss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2280" y="2519280"/>
            <a:ext cx="6172200" cy="4262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lds and Ca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-Explain how this happe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15328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onardo da Vinci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452-15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2809800" cy="3641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757320" cy="3233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87120" y="5257800"/>
            <a:ext cx="776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onardo sketched fossils and recogn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as the remains of ancient li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bon Fil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84600" y="1828800"/>
            <a:ext cx="4330800" cy="474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-Explain how this happe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48640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ression and Carbon fil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-Explain how this happe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76520" y="2033640"/>
            <a:ext cx="5943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bon Film - Pl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-Explain what this i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-Is it soft tissue or hard tissue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057400" y="2581200"/>
            <a:ext cx="510552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3504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e: 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uperpos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ndoro Cut, Wiscon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MVC-005S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48956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52592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161800" y="304920"/>
            <a:ext cx="482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ating Techn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Why/how d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u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s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What do they tell 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of Life on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tion – appearances of new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inction – disappearances of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 in exploring for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105520" y="0"/>
            <a:ext cx="373356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monly Preserve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d Parts of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Parts of Ins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ody Mate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rely Preser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ft or Easily Decayed Parts of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Orga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i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2743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nosaur Tracks, Tex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This is called w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aluxy2" descr=""/>
          <p:cNvPicPr/>
          <p:nvPr/>
        </p:nvPicPr>
        <p:blipFill>
          <a:blip r:embed="rId1"/>
          <a:stretch/>
        </p:blipFill>
        <p:spPr>
          <a:xfrm>
            <a:off x="3174840" y="304920"/>
            <a:ext cx="58168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s or traces of ancient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es, Teeth, Shells, Tracks, Tr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s – r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657600" y="228600"/>
            <a:ext cx="3048120" cy="2425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5791320" y="457200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 Tree in Lava Flow, Hawa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57320" y="1438200"/>
            <a:ext cx="702936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9356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How does an organism become a fossi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311720" cy="2819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burial is ess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on from scavengers, decomposers, physical deteri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elps?  How do we re-build human for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2187720"/>
            <a:ext cx="4343400" cy="3135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769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or durable tissues,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skel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y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047760" cy="2286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2217960" cy="33526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562720" y="2438280"/>
            <a:ext cx="3352680" cy="25146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514600" y="4191120"/>
            <a:ext cx="3276720" cy="24573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04920" y="2666880"/>
            <a:ext cx="2725560" cy="27432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823680" y="136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57200"/>
            <a:ext cx="266688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57200"/>
            <a:ext cx="30492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5560" y="54100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y 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248520" y="4266720"/>
            <a:ext cx="53316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181480" y="5181120"/>
            <a:ext cx="91440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000" y="57754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295280" y="4800600"/>
            <a:ext cx="381240" cy="99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228600"/>
            <a:ext cx="236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fossils are formed from the hard parts of organis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What conditions favor preserv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burial is most likely in oc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 creatures with shells are fairly easy to p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: Marine organisms with hard parts are most likely to become foss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Preser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shell, bone or te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ds and 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fossils: burrows, tracks, tr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mmified  ?-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es mummification have to do with fossi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3125520" cy="4724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3962160" cy="29718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3886200" y="365760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ssils can also form when organisms are preserved in res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ks of organisms can be preser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5:14:24Z</dcterms:created>
  <dc:creator>James Ebert</dc:creator>
  <dc:description/>
  <dc:language>en-US</dc:language>
  <cp:lastModifiedBy>RCCSD</cp:lastModifiedBy>
  <dcterms:modified xsi:type="dcterms:W3CDTF">2007-05-14T14:52:58Z</dcterms:modified>
  <cp:revision>60</cp:revision>
  <dc:subject/>
  <dc:title>Paleontology</dc:title>
</cp:coreProperties>
</file>